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49EE1-3433-43BE-9306-7E695693A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A935-569F-41E6-8ED4-56E2E0AB5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BD91D-130A-422C-B321-A3941442A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26C2F-AC01-4B40-BB04-B3D534444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5BF89-4B09-4CFD-8A59-21FC3553A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DA38C-058B-4B81-8AE2-2991E0AFD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2D977-FE80-470E-8689-B4158FC5E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B4F3C-EF5C-4EDB-AB9E-861DCB7C1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FD78E-B826-4D58-BB22-0483DAAF5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50635-4CB7-4884-84F5-1B6FD050B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DD9C-57E9-426B-8FB4-D25980D5A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F09A-93D8-463E-8322-7394D857E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F3890-3CEF-42B3-9670-A453AE766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3EA03-76CE-4CD4-8702-8A7652F5E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99DDA-C446-44EB-9CAB-7C15F678C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5337F-7D7E-40D2-A4B1-CDD585519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B5579-20C6-414A-B40E-BE76DBB58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FA25-7805-4198-8428-43770CB9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232A-401F-4C1E-994F-AAE9A8851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E7DD-78B8-4818-8362-09B065D5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0A40B-D5FC-48D2-8A27-6CBAA9FB9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E045-0CD8-4BF6-B172-907151AA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3942-278C-4941-916A-D4B9C72F9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EBB1-A5F0-4C69-A41E-6366D488C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FA32-EF3C-45B3-9806-E6E6D3F766D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6355-2AAF-4B2A-B783-DECAF42EA3C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43000"/>
            <a:ext cx="7427880" cy="178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99900"/>
                </a:solidFill>
                <a:latin typeface="Garamond"/>
              </a:rPr>
              <a:t>SOCIEDAD ENTRE CÓNYUGES</a:t>
            </a:r>
            <a:endParaRPr b="0" lang="en-US" sz="4300" spc="-1" strike="noStrike">
              <a:solidFill>
                <a:srgbClr val="999900"/>
              </a:solidFill>
              <a:latin typeface="Garamond"/>
            </a:endParaRPr>
          </a:p>
        </p:txBody>
      </p:sp>
      <p:sp>
        <p:nvSpPr>
          <p:cNvPr id="91" name="PlaceHolder 2"/>
          <p:cNvSpPr>
            <a:spLocks noGrp="1"/>
          </p:cNvSpPr>
          <p:nvPr>
            <p:ph type="subTitle"/>
          </p:nvPr>
        </p:nvSpPr>
        <p:spPr>
          <a:xfrm>
            <a:off x="6372360" y="5950080"/>
            <a:ext cx="2595600" cy="636480"/>
          </a:xfrm>
          <a:prstGeom prst="rect">
            <a:avLst/>
          </a:prstGeom>
          <a:noFill/>
          <a:ln w="0">
            <a:noFill/>
          </a:ln>
        </p:spPr>
        <p:txBody>
          <a:bodyPr lIns="90000" rIns="90000" tIns="46800" bIns="46800"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CPCECABA</a:t>
            </a:r>
            <a:endParaRPr b="0" lang="en-US" sz="1900" spc="-1" strike="noStrike">
              <a:solidFill>
                <a:srgbClr val="000000"/>
              </a:solidFill>
              <a:latin typeface="Verdana"/>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09/11/2011</a:t>
            </a:r>
            <a:endParaRPr b="0" lang="en-US" sz="1900" spc="-1" strike="noStrike">
              <a:solidFill>
                <a:srgbClr val="000000"/>
              </a:solidFill>
              <a:latin typeface="Verdana"/>
            </a:endParaRPr>
          </a:p>
        </p:txBody>
      </p:sp>
      <p:sp>
        <p:nvSpPr>
          <p:cNvPr id="92" name=""/>
          <p:cNvSpPr/>
          <p:nvPr/>
        </p:nvSpPr>
        <p:spPr>
          <a:xfrm>
            <a:off x="2268360" y="3645000"/>
            <a:ext cx="44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751120" y="3371760"/>
            <a:ext cx="4268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319480" y="3573360"/>
            <a:ext cx="5060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2000" spc="-1" strike="noStrike">
                <a:solidFill>
                  <a:srgbClr val="000000"/>
                </a:solidFill>
                <a:latin typeface="Verdana"/>
              </a:rPr>
              <a:t>Juan   Carlos  Nicolin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Ley del impuesto a las ganancias</a:t>
            </a:r>
            <a:endParaRPr b="0" lang="en-US" sz="3200" spc="-1" strike="noStrike">
              <a:solidFill>
                <a:srgbClr val="9999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ículo 32:</a:t>
            </a:r>
            <a:r>
              <a:rPr b="0" lang="en-US" sz="2000" spc="-1" strike="noStrike">
                <a:solidFill>
                  <a:srgbClr val="000000"/>
                </a:solidFill>
                <a:latin typeface="Verdana"/>
              </a:rPr>
              <a:t> “</a:t>
            </a:r>
            <a:r>
              <a:rPr b="0" i="1" lang="en-US" sz="2000" spc="-1" strike="noStrike">
                <a:solidFill>
                  <a:srgbClr val="000000"/>
                </a:solidFill>
                <a:latin typeface="Verdana"/>
              </a:rPr>
              <a:t>A los efectos del presente gravamen, sólo será admisible la sociedad entre cónyuges cuando el capital de la misma esté integrado por aportes de bienes cuya titularidad les corresponda de conformidad con las disposiciones de los artículos 29 y 3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Garamond"/>
              </a:rPr>
              <a:t>Ley de Sociedades Comerciales -19550</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edad entre esposos</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ículo 27: “</a:t>
            </a:r>
            <a:r>
              <a:rPr b="0" i="1" lang="en-US" sz="2000" spc="-1" strike="noStrike">
                <a:solidFill>
                  <a:srgbClr val="000000"/>
                </a:solidFill>
                <a:latin typeface="Verdana"/>
              </a:rPr>
              <a:t>Los esposos pueden integrar entre sí sociedades por acciones y de responsabilidad limitada.</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uando uno de los cónyuges adquiera por cualquier título la calidad de socio del otro en sociedades de distinto tipo, la sociedad deberá conformarse en el plazo de seis (6) meses o cualquiera de los esposos deberá ceder su parte a otro socio o a un tercero en el mismo plazo.”</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nción.</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tículo 29:</a:t>
            </a:r>
            <a:r>
              <a:rPr b="0" lang="en-US" sz="2000" spc="-1" strike="noStrike">
                <a:solidFill>
                  <a:srgbClr val="000000"/>
                </a:solidFill>
                <a:latin typeface="Verdana"/>
              </a:rPr>
              <a:t> “</a:t>
            </a:r>
            <a:r>
              <a:rPr b="0" i="1" lang="en-US" sz="2000" spc="-1" strike="noStrike">
                <a:solidFill>
                  <a:srgbClr val="000000"/>
                </a:solidFill>
                <a:latin typeface="Verdana"/>
              </a:rPr>
              <a:t>Es nula la sociedad que viole el artículo 27. Se liquidará de acuerdo con la Sección XIII.”</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Garamond"/>
              </a:rPr>
              <a:t>Sociedades de objeto civil</a:t>
            </a:r>
            <a:endParaRPr b="0" lang="en-US" sz="3600" spc="-1" strike="noStrike">
              <a:solidFill>
                <a:srgbClr val="999900"/>
              </a:solidFill>
              <a:latin typeface="Garamond"/>
            </a:endParaRPr>
          </a:p>
        </p:txBody>
      </p:sp>
      <p:sp>
        <p:nvSpPr>
          <p:cNvPr id="100" name="PlaceHolder 2"/>
          <p:cNvSpPr>
            <a:spLocks noGrp="1"/>
          </p:cNvSpPr>
          <p:nvPr>
            <p:ph/>
          </p:nvPr>
        </p:nvSpPr>
        <p:spPr>
          <a:xfrm>
            <a:off x="914400" y="1600200"/>
            <a:ext cx="7772400" cy="4997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 sociedades incluidas en la ley 19550 son comerciales, aunque tengan objeto civil.</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mbién serán mercantiles aquellas sociedades cuya finalidad constituya una especulación comercial independientemente del tipo elegido.</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incluyen como sociedades civiles a las SH y sociedades civiles que tengan por objeto:</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edades profesionales</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taciones agropecuarias, que no requieran una organización empresarial (Dictamen DAT 63/02)</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tación de establecimientos educativ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277920"/>
            <a:ext cx="7786800" cy="5191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00"/>
                </a:solidFill>
                <a:latin typeface="Garamond"/>
              </a:rPr>
              <a:t>                   </a:t>
            </a:r>
            <a:r>
              <a:rPr b="1" lang="en-US" sz="3200" spc="-1" strike="noStrike">
                <a:solidFill>
                  <a:srgbClr val="999900"/>
                </a:solidFill>
                <a:latin typeface="Garamond"/>
              </a:rPr>
              <a:t>Jurisprudencia</a:t>
            </a:r>
            <a:endParaRPr b="0" lang="en-US" sz="3200" spc="-1" strike="noStrike">
              <a:solidFill>
                <a:srgbClr val="999900"/>
              </a:solidFill>
              <a:latin typeface="Garamond"/>
            </a:endParaRPr>
          </a:p>
        </p:txBody>
      </p:sp>
      <p:sp>
        <p:nvSpPr>
          <p:cNvPr id="102"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Verdana"/>
              </a:rPr>
              <a:t>Nesci, Ana María</a:t>
            </a:r>
            <a:endParaRPr b="0" lang="en-US" sz="15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 trataba de una sociedad de hecho formada entre Ana María Nesci y Terruli, cuando ambos eran solteros (1973), que compraron un inmueble en condominio (1980), y lo afectaron ella a su actividad de óptica y el inicialmente a las tareas administrativas y luego a la actividad de lentes de contacto (1991). Estaban casados desde 1975, se separan de hecho (1993), y finalmente se divorcian (1997), pero siempre manteniendo la sociedad de hecho.</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na María Nesci realizaba la facturación y presentaba las declaraciones a su nombre, utilizando su número de CUIT, y participaba del resultado a Jorge Terrulli. </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El fisco adujo la falta de  inscripción de la sociedad de hecho, y consideró que se trataba de una sociedad unipersonal, no admitiendo la participación en los resultados.</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El TFN, Sala D, 14/11/2000, entendió que se trataba del desarrollo de una actividad comercial (venta de aparatos fotográficos, artículos de fotografía, instrumentos de óptica y lentes de contacto), aduciendo la nulidad conforme a la ley de sociedades comerciales. Confirma la posición del fisco.</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CNFCA, Sala III, 11/3/2002, evalúa la autonomía de la gestión al admitir la separación conyugal de hecho (1993), anterior al período fiscal en cuestión (1995). Descarta la formalidad de que la facturación y declaraciones juradas estaban hechas por una sola persona, ante las evidencias de la existencia de la sociedad de hecho. Revoca la sentencia del TFN, admitiendo los fundamentos de la contribuyent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9900"/>
                </a:solidFill>
                <a:latin typeface="Garamond"/>
              </a:rPr>
              <a:t>Cecowski, Jorge Benjamín y otra, TFN, Sala A, 2/6/2004</a:t>
            </a:r>
            <a:endParaRPr b="0" lang="en-US" sz="36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dmite la sociedad entre cónyuges solamente cuando el capital de la sociedad esté integrado por aportes de bienes de los esposos cuya titularidad les corresponda fiscalmente.</a:t>
            </a:r>
            <a:endParaRPr b="0"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a admisión fiscal queda subordinada a las relaciones societarias del derecho comercial. En consecuencia solo pueden existir sociedades entre esposos en sociedades por acciones o de responsabilidad limitad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9900"/>
                </a:solidFill>
                <a:latin typeface="Garamond"/>
              </a:rPr>
              <a:t>Rossi, Jorge Ariel, TFN, Sala D, 10/3/2003</a:t>
            </a:r>
            <a:endParaRPr b="0" lang="en-US" sz="36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este pronunciamiento no se analiza si es viable o no la sociedad entre cónyuges, por cuanto la determinación del fisco se basaba en que no se probó que los bienes aportados por la cónyuge le pertenecieran fiscal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12:32:39Z</dcterms:created>
  <dc:creator>PC</dc:creator>
  <dc:description/>
  <dc:language>en-US</dc:language>
  <cp:lastModifiedBy>PC</cp:lastModifiedBy>
  <dcterms:modified xsi:type="dcterms:W3CDTF">2011-11-07T20:56:03Z</dcterms:modified>
  <cp:revision>5</cp:revision>
  <dc:subject/>
  <dc:title>SOCIEDAD ENTRE CÓNYUGES</dc:title>
</cp:coreProperties>
</file>